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68D4-0581-4579-A4B2-513FBE5F9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B25B-6514-4DF3-88BF-26B98BDC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D882-FFE1-4FDD-96F6-46B2F2EC7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9BFC-53E9-4135-B64F-4634A9D9D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E294-D126-4B35-A553-1D708836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894F-E1BA-4A82-9E9D-2B67E7A7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5D08-8730-48F6-BB87-994F17FC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A479-1CF7-4486-8F4F-774FF7A3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AB5A-3DA5-4027-B2E9-663D5210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B2F1-5969-4E60-B7D0-C0E12A4A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010F-E802-4EE4-B73B-32611873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B7B3-6F2B-4E70-86C1-0C3204F8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AF67-5D00-4B50-B30D-82B74AE4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52A8-27E8-4965-881B-FE985B4C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A405-ACB0-4856-A7D0-42DD7E5F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237A-9849-43B0-BFB1-7E88F85C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1406-4DFD-467A-808D-8D1BE2CDA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30CD3-F0E3-4A25-86E7-F6FF768A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E8CA9-8603-424E-A80A-EAAD907B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B9954-AC3F-4C7F-B2B2-9EBA6065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A0225-ED4B-4B9A-8B1D-DA0A965E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2E182-6299-4B2E-9827-B4E3591F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4C5E-1011-4922-986A-C020E30B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651BF-FA82-436E-836F-D763275F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70BE6-293E-44A4-841E-70B1C01B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A4A29-DEA6-465F-9646-AC99F026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5C7BF-4A9E-45FE-8A3D-8CB276F0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52BB1-E3C1-4D39-9F92-5E72F86C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C2FBD-E37C-4093-A202-01BFEFA5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0E5DE-F591-4806-8619-63D32C79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B5C91-09CD-467A-9ADD-D5F203429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9F994-EC98-451A-BFD8-4ECCCDE4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B2DC1-0FEB-417B-8B0C-F9F403CC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9B5D-810A-4D45-9663-2581F10F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B76DB-798A-4B4E-8807-683AAF9E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9C75A-9511-439A-A171-A917729C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B156A-B7A0-4B1F-81C7-680FFF4D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940B2-9EA9-49D2-9466-50592B64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68534-94EF-453F-9C83-705B78B6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878FD-73F6-471E-89A7-492E93F3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05A3C-918D-4C05-98FE-271CD10C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E1BF3-25D5-40DC-8785-5CA2AC543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148D5-CF3A-48B2-A787-5C854DE12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2AD7A-6BF1-4BC3-A021-508E05CD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9F06-7D02-4B11-8790-2329656D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5705A-B2C2-43C2-97CB-DA286702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18384-1162-416F-A474-752A8E26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94A7F-8A94-40F7-94DF-04742FA3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54C6E-12F9-471E-998D-A2986E59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9B298-D6F4-4D41-8854-DD69724A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2083B-281C-4C29-995D-741A2630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44D1F-4C0B-4803-AB34-F9402DE2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43E75-FF50-41AE-9F56-AD300974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17F94-260A-4751-B3F7-2CDB680C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CEBF6-9D18-41C6-A86F-BD3738F8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5095-40DE-40D4-ACB1-4DF7F323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55C92-B680-41C2-8FDD-6B158CCE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4F207-CA12-4C7D-B68A-2A8EE944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A8469-2ABA-4848-8FBF-7C773835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A21CB-FFEF-4617-9F11-F4C9F5BB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0D674-E483-4DAD-A50E-0FBE85B5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4F881-3EFF-40D6-BD87-5244DC3A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1625F-5295-4D60-B043-39DAA246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614F6-089D-4150-AB4D-C3A6A268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0CA32-A054-48F3-A176-99062396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9F35D-67E6-4085-9DD1-25082ECC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38BD-E4F5-4AC2-B280-758AD845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17928-3218-414E-B80F-A73EA4E6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F65C1-C00D-4C59-B628-0A715D822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D53A1-F7BF-4139-8F71-0212D00B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0908E-97BE-4BEF-9699-D02C3BA97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60E39-A54C-4477-80C2-DB3984E8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07601-FC5C-45BF-8D4C-D4E5AD68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15371-E270-4208-8003-79A6085E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90F6D-DD56-4547-A3C2-9A84D64A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FCF7F-7AE2-420E-806F-4A9A8085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ED1DE-D06B-42B1-A5A5-CF939476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4388-1AFD-4ED0-9679-32314440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FF297-A4A6-480D-9628-38145C31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0FDBA-9913-431B-A015-5AF19447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DD0E5-A5DF-4F91-B3AB-5D427540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157E7-B9F1-41EA-A98B-A726476B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3EB9F-24BE-4097-B2E0-0E358AD54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D6A6-72BE-435B-8538-660A754A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5EDD3-4BD1-4BCD-8D83-D22EFCDC1C27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FA7153-682A-4C05-9A53-81B28AC228F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1840"/>
            <a:ext cx="225360" cy="231840"/>
            <a:chOff x="914400" y="1401840"/>
            <a:chExt cx="225360" cy="23184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1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8ECCD6-A844-42A0-83DB-06F08A51B81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5321C1-9A3A-4D58-B704-96C90D28C5A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3680"/>
            <a:ext cx="225720" cy="231480"/>
            <a:chOff x="2163600" y="2803680"/>
            <a:chExt cx="225720" cy="23148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3680"/>
              <a:ext cx="22572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148D6E-A7B2-4965-9BFE-2880336871F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9A137B-C841-40F0-A634-4AEAB77A7A2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334A49-8642-4ABA-9F3F-D4767DBE7EEF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F5DE43-7E7A-4E7A-AEE9-DED86F08880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E66E8D-9939-4E90-9246-9D29D7BDAE9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D5907B-2B9E-400F-BBC6-C0FCE368AF9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305A31-2E11-4B80-B85D-D20C2EF114C2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BF2175-513F-4455-BC53-3C523E00A8E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797360" cy="4797720"/>
            <a:chOff x="646200" y="969840"/>
            <a:chExt cx="4797360" cy="479772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736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D80E61-99E4-4256-B76B-E8D4111A490C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C28E94-C7BA-4553-9C56-E3B9F448375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ellringe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Gill Sans MT"/>
              </a:rPr>
              <a:t>What is wind?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et’s Practice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24000" indent="-11430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MT"/>
              </a:rPr>
              <a:t>What is convection?</a:t>
            </a:r>
            <a:endParaRPr b="0" lang="en-US" sz="6500" spc="-1" strike="noStrike">
              <a:solidFill>
                <a:srgbClr val="000000"/>
              </a:solidFill>
              <a:latin typeface="Gill Sans MT"/>
            </a:endParaRPr>
          </a:p>
          <a:p>
            <a:pPr marL="1224000" indent="-11430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MT"/>
              </a:rPr>
              <a:t>What is the Coriolis Effect?</a:t>
            </a:r>
            <a:endParaRPr b="0" lang="en-US" sz="6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P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Gill Sans MT"/>
              </a:rPr>
              <a:t>Why are there different temperatures on the earth?</a:t>
            </a:r>
            <a:endParaRPr b="0" lang="en-US" sz="5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P2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Gill Sans MT"/>
              </a:rPr>
              <a:t>Which type of air is more dense?</a:t>
            </a:r>
            <a:endParaRPr b="0" lang="en-US" sz="5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P3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ill Sans MT"/>
              </a:rPr>
              <a:t>What is wind?</a:t>
            </a:r>
            <a:endParaRPr b="0" lang="en-US" sz="6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P4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ill Sans MT"/>
              </a:rPr>
              <a:t>What causes wind?</a:t>
            </a:r>
            <a:endParaRPr b="0" lang="en-US" sz="5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P5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Gill Sans MT"/>
              </a:rPr>
              <a:t>Monique says that winds move from high pressure to low pressure.  Do you agree or disagree?</a:t>
            </a:r>
            <a:endParaRPr b="0" lang="en-US" sz="51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P6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If it is warm in Ms. Roth’s room, but really cold in the hallway, which way will the air move?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P7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 MT"/>
              </a:rPr>
              <a:t>What is convection?</a:t>
            </a:r>
            <a:endParaRPr b="0" lang="en-US" sz="6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P8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Gill Sans MT"/>
              </a:rPr>
              <a:t>What causes winds to curve on earth?</a:t>
            </a:r>
            <a:endParaRPr b="0" lang="en-US" sz="5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88560" y="252684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572314"/>
                </a:solidFill>
                <a:uFillTx/>
                <a:latin typeface="Gill Sans MT"/>
              </a:rPr>
              <a:t>4.6 Independent Practice</a:t>
            </a:r>
            <a:endParaRPr b="0" lang="en-US" sz="5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 u="sng">
                <a:solidFill>
                  <a:srgbClr val="572314"/>
                </a:solidFill>
                <a:uFillTx/>
                <a:latin typeface="Gill Sans MT"/>
              </a:rPr>
              <a:t>4.6 Wind Class Notes</a:t>
            </a:r>
            <a:endParaRPr b="0" lang="en-US" sz="5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emperatures on Eart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37760" y="1447560"/>
            <a:ext cx="8496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sun heats the earth unevenly.  As a result, some areas on the earth are cold and some areas of the earth are hot.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4" name="Picture 3" descr=""/>
          <p:cNvPicPr/>
          <p:nvPr/>
        </p:nvPicPr>
        <p:blipFill>
          <a:blip r:embed="rId2"/>
          <a:stretch/>
        </p:blipFill>
        <p:spPr>
          <a:xfrm>
            <a:off x="2930400" y="3838680"/>
            <a:ext cx="600408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6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Let’s Practice…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1. Where will it be warm on earth in summer?  Where will it be cold? Why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6" name="Picture 3" descr=""/>
          <p:cNvPicPr/>
          <p:nvPr/>
        </p:nvPicPr>
        <p:blipFill>
          <a:blip r:embed="rId2"/>
          <a:stretch/>
        </p:blipFill>
        <p:spPr>
          <a:xfrm>
            <a:off x="438120" y="2690640"/>
            <a:ext cx="826776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87240" y="85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essur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58880" y="1133640"/>
            <a:ext cx="838512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Gill Sans MT"/>
              </a:rPr>
              <a:t>Cold air is more dense, so it creates high pressure.  Warm air is less dense, so it creates low pressure.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essur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312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Gill Sans MT"/>
              </a:rPr>
              <a:t>Air moves from high pressure to low pressure creating wind. Wind is moving air. </a:t>
            </a:r>
            <a:endParaRPr b="0" lang="en-US" sz="5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1" name="Picture 3" descr=""/>
          <p:cNvPicPr/>
          <p:nvPr/>
        </p:nvPicPr>
        <p:blipFill>
          <a:blip r:embed="rId2"/>
          <a:srcRect l="0" t="0" r="0" b="21952"/>
          <a:stretch/>
        </p:blipFill>
        <p:spPr>
          <a:xfrm>
            <a:off x="3933720" y="4659480"/>
            <a:ext cx="521028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et’s Practice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95400" indent="-9144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Gill Sans MT"/>
              </a:rPr>
              <a:t>What causes low pressure?</a:t>
            </a:r>
            <a:endParaRPr b="0" lang="en-US" sz="5500" spc="-1" strike="noStrike">
              <a:solidFill>
                <a:srgbClr val="000000"/>
              </a:solidFill>
              <a:latin typeface="Gill Sans MT"/>
            </a:endParaRPr>
          </a:p>
          <a:p>
            <a:pPr marL="995400" indent="-9144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Gill Sans MT"/>
              </a:rPr>
              <a:t>What causes wind?</a:t>
            </a:r>
            <a:endParaRPr b="0" lang="en-US" sz="5500" spc="-1" strike="noStrike">
              <a:solidFill>
                <a:srgbClr val="000000"/>
              </a:solidFill>
              <a:latin typeface="Gill Sans MT"/>
            </a:endParaRPr>
          </a:p>
          <a:p>
            <a:pPr marL="995400" indent="-9144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Gill Sans MT"/>
              </a:rPr>
              <a:t>Which direction does air move? </a:t>
            </a:r>
            <a:endParaRPr b="0" lang="en-US" sz="5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nve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Gill Sans MT"/>
              </a:rPr>
              <a:t>Convection is the movement of air and liquids because of differences in temperatures.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riolis Effec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Gill Sans MT"/>
              </a:rPr>
              <a:t>The curving of wind by the Earth’s rotation is called the Coriolis effect.</a:t>
            </a:r>
            <a:endParaRPr b="0" lang="en-US" sz="5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2"/>
          <a:srcRect l="0" t="16345" r="0" b="0"/>
          <a:stretch/>
        </p:blipFill>
        <p:spPr>
          <a:xfrm>
            <a:off x="5889600" y="3956040"/>
            <a:ext cx="325440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4:05:13Z</dcterms:created>
  <dc:creator>Caroline Roth</dc:creator>
  <dc:description/>
  <dc:language>en-US</dc:language>
  <cp:lastModifiedBy>Caroline Roth</cp:lastModifiedBy>
  <dcterms:modified xsi:type="dcterms:W3CDTF">2011-05-24T02:28:04Z</dcterms:modified>
  <cp:revision>22</cp:revision>
  <dc:subject/>
  <dc:title>Wind trends</dc:title>
</cp:coreProperties>
</file>